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A369-344C-467C-B3C8-56394DFD9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F2F2-D192-4CE1-9967-3AEFB96D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45A9-F571-44B2-9E8E-54831F74F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C032-DAD2-47BE-8F8B-0ECD415C80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835D7-48A7-4CDD-819F-A12AD2B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3C9D9-4D99-4B07-B7C2-AD66C686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606D6-08EF-4169-9C25-D78FE3E2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25E0E-1BEC-49E4-B12E-FB179E4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A0B75-C61E-42F9-8A80-5B9CB71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3170-EF4D-44CF-87AC-D5A53FD9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1278-04E1-497D-B4D1-0B389F6F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9807-446A-4DBC-8A06-3A7C30FA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BAB77-1E52-4324-AD3F-C0AC36A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8133-E355-432B-BB30-6118942A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3C0C-DFE6-47B0-8AD6-CA9E2F5FBCC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4507A-452C-40B3-8373-21CB1370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77FA5-FA37-4844-BC21-5079C498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72870-3873-4C73-8B57-3DEC33E8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CCC02-B51B-41D1-A063-7F1829D1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6FBB1-7C3D-45C1-81E8-51962498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C8AEA-D677-400E-A387-E04BBEC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6179-9AC9-495A-9EFB-49A3876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35EEF-0772-4A17-A595-99806EA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9CC6B-2D46-43B2-8F4C-14E4F07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F3F0B-D40E-4951-93AE-829DA58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65FA-0AE8-44C9-B7E5-3014D7A05A3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C9F5A-DEE7-470E-B603-F4459B0A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C9B3B-4316-47E6-9672-788392E6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88ACC-7469-4800-A8F9-4719E6B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3EDF6-3C20-4543-98BF-D608711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55369-9234-423A-BDE0-06C191D3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8F5BB-0B4D-459A-BB17-681C9750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6008F-ED0E-4EDE-A9D3-1AB164B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677D2-626D-453F-81EE-C6032ED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EA999-1F1E-4A25-B812-E18AB7EC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9FF08-983E-45C1-8350-1456C2D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596-6D20-47F2-9E04-34C63095F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203A-F370-4958-A645-E2DF8D14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CB502-153A-43BB-8D74-3D3FC18A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FD39D-DF53-4728-8E52-9B6BA605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3AA4C-8DDB-425A-B076-CF04EBEE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756A2-0A1D-4600-B5E6-922F40B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C6739-DD79-4A86-B5AF-DC2CED2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E1598-7000-47BE-8746-81292788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1A3B3-738E-44CE-BDA4-E0ED9B95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AE112-A3D5-4219-BC83-6A8602A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33F6-0EE6-44E3-86DA-05937AD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ADC-C187-4408-AD37-73387C89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60644-BE44-442A-8115-7171056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B7880-9614-4D23-8E7A-B2F47CC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2C877-B1DA-4422-A662-D9AEEC43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62236-2331-4711-8C62-7486CF24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93F25-1B46-4653-8214-E0874E1B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D58-E4B4-4562-9C96-A2FA4D3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224-9C52-418E-9278-E7D1C958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FD2-E6C4-417B-B3D4-610D587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94D-22AC-422B-B996-2E2D5F98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2FB-CD81-4893-842F-06005F5C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8804-E2CB-4EC2-9CC6-22E4886C7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61B-7965-4D85-B133-033EB2B3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C3C-A9AC-4D64-A3C2-D835B185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F5A-FD22-4E85-8397-29902ECE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BA2-51FD-4BBE-B8E2-AF42B500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B27E-BA46-4D7C-8378-ABD50FC65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7D1B-2FC5-47C0-B942-F92467E9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B821-FF8B-46B4-A7BE-FD062FA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2666-593D-481C-8F9C-9E54E2DD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C6FD-D057-4B10-B34F-F469CC5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0BA0-B174-4BD8-B78B-A0FCF99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4535-ADD7-48AC-9057-D5FE79A47B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083-E425-4534-B06B-AF3B829A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129-3EA1-4C63-B494-18A4E4D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232F-12AB-4DC2-AE52-B8E55A4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4B6-33E4-45E5-8214-4818102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7376-1EE4-43B8-8D06-AB525F8A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2C4D-9E5A-4061-8B29-E76AF314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2C3F-1A62-4EF6-A804-31E5444B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174-713D-4C4A-AB8B-1D0EC3D7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387A-2FED-4486-A293-BFD28BD4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FF2A-EE12-4A02-A7E3-87C4543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74FC-6574-438B-A787-CBB0C40456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C3F46-B6D0-4DD1-A347-48EF275E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C24B-9AB3-47C4-A272-C0AB9B57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47DA-5236-4CCC-96D3-A49D15C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880E-FBE3-4E2A-846C-30A91F3F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D6AA-7322-442C-B7BD-DB531D3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032A-6605-4B01-B5BD-8E81A9F3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D94E-8F3E-48C7-8025-26913AB2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37A0-E5E8-468B-A247-556C7670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D761-597C-4EF0-AE8B-963A0E83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0DB8-1B27-4227-9E0E-D5BF5820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862E-09A7-42C9-8E3B-2C42CF897A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FAAA-F2A0-468E-BF7F-DBEC400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D7BE-F2C9-422D-B74B-A7FF866A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1A8B-110D-4E55-B4CE-68E29F7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8F91-15B2-402A-B52A-8BFE0A6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4010-623E-46B8-BB9E-A28A3D2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9B71-ACA6-4313-813A-36491527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E36D-850C-49F3-A21D-DBE556D8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BA47-0C97-4D97-AA12-4346FA1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6B77-3891-4479-A21E-613CE650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383E-6E3D-4743-A86C-F73D8A79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379C-5D51-4808-8812-6F061EB677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7D69E-E4F6-454D-AD55-DF631F15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E8AF-ACB6-4085-9C96-614048A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0E2A-8B60-41E7-BB5E-3083BBE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75838-8AB6-4197-AC1D-56C2801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3150B-AB39-4148-AAC1-3A834722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18A5-4D8A-4FFE-A248-CDB914EF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7DC2-4EF8-409A-9F39-14AD5619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7F11-C356-43B6-92CD-979583D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0360-F934-4261-B677-8034C9A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27B46-6040-497D-917B-1A69444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64BC-0B40-46D8-8C33-E0D37FC886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D61F-433D-410F-83BA-BB104E82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BDF3-58A2-4C92-8F77-49533FDE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55FC-1EEC-4106-894A-B1564081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9BD8-D53D-4FFE-AA31-72FFB163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6387-681A-4452-8FC2-EB8712F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7B80-0DC9-479C-8A2C-33B8CA7D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32C9-B8C7-41A5-B6CC-8ECFD94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34606-E6E2-483C-A381-359A7DB9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4E188-041E-4310-9667-3C814745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659F-28E9-4468-BE23-59BB706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BB6E-595F-46AF-9CAD-C64FD9002B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E4AEB-8513-4D02-80E8-BEAFF77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D8553-5F3C-4806-A87F-8B37E97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3CA84-4FA1-4D72-B059-9DF7271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4204-F043-4E0C-8FC8-673541F5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A294-FA9D-49E6-9437-44832CCF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4E647-61E2-4D73-9954-6255489E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0E3D0-DDDF-4E73-B7B9-80A87B58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5FD3-10F8-4AC0-9775-2815F9E6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A3B2A-BC27-4FC1-8126-FD51A16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F35AE-A1CE-42C3-BD10-ACB5E7C5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F1C3-9CD0-41E9-9349-831A5E73E86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F881-15A6-412A-A8EA-869B6EAE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FB61-C644-418A-80EF-C6E84B0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4599C-B85E-4F6F-886D-3EDE74DA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B433-862F-4091-A25D-25F1F70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6A938-E78A-4D0E-AC4F-E9D47CB0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5604B-AE7D-464C-992A-7E811F0F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7F78-758E-49AB-8F9A-BBFC0799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8166-4565-4354-B06A-2ED48496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E3CFB-3FEE-4A18-A174-5F8CC2C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F541-8CE3-4D1A-ADE9-F3BD63E1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020F-0DDF-4297-95C4-8AB09CDE881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DFC-C5AF-4150-A3EA-DCA88701D83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C6F2-82EC-4A6F-B250-3D908CC2B8BB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D62-BC38-4AF4-B928-9D981864B25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50E7-330C-4D59-9E08-71B4BD17965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89B0-9978-43E3-90E7-DB5C48EA848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C821-CC5F-4CEB-AC8D-19332D821BF8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5751-C6D9-4D13-9118-FE14EBB1683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C2D-039C-4E89-89F9-E09F2B6940A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93CB-3300-4EFE-8943-3295697FB45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C2F2-FADE-4F31-9CDD-DBDE9CC458B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16F4-791F-4D0D-B480-F0B1072D379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candy bouquets. The starting price is $16 for five candy bars and another $1.99 for each additional candy bar. Write an equation in slope-intercept form that expresses the total amount of the candy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1.99x + 16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flower shop sells Mother’s Day pink chrysanthemums in wicker baskets. The wicker basket costs $11, and each flower is $3. Write an equation in slope-intercept form that expresses the total amount a Mother’s Day gift would co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3x + 1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loriculture students develop floristry prices by using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loriculture—FL 1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velop marketing and pricing strategies for retail florist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n invoice for sale using industry standard formula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create linear models to represent problem sit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telephone bill is $10 per month plus $0.30 per minute for long distance calls. Write an equation in slope-intercept form that expresses the total amount of the phone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-intercept form: y = mx + b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m = slope of the lin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x = variabl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b = y-intercept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 = rise/ru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lower shop charges $25 for a bouquet of six lily flowers. Each additional lily costs $2.75. Write an equation in slope-intercept form that expresses the total amount of the flower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Remember the slope-intercept form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y = mx + b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set cost ($25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cost that changes according to the x variab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75x + 2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rose boutonnieres for a beginning price of $9. Each additional small rose adds an extra $2.50 to the price. Write an equation in slope-intercept form that expresses the total amount of a boutonnie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slope of the line = $2.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y-intercept, set number = $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5x + 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1T05:03:17Z</dcterms:modified>
  <cp:revision>15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8615957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